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9D8-0E70-4809-9249-36EF18DE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995-02A8-487C-8173-D4D8F178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D17-EF8E-4A8B-8A01-809E674E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254-1F0F-44C8-9381-7F94C633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D4A2-DCA8-43C1-9417-9A587650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A7E7-7DEE-4AF1-A484-CC019709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9CFA-A426-44F9-AE1C-604AAF99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1051-D5DC-492E-A7EC-68EFBA54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CFEB-E497-4651-B4A6-E649185E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CBB5-B9FA-4CA6-B650-6050F000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84AC-F100-4125-A92D-42AD1535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19D-3479-4CCD-9B8C-E07165D2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95A5-D1B3-49E4-BEE9-B76B5D6A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39D9-F689-41D5-861A-D45FD469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6731-FAD9-421E-9E83-A48FB18B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FC05-61D1-4CF7-A2F1-1CC24C4D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C503-C1CF-40DD-B827-0F307FD3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18F-6D48-47E8-9B7E-ABD9B55A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360-4106-46FF-AAB8-6FF9AFB3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0D0-1C83-49DC-B956-78B6EBE3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2C3-7816-4190-9D2D-EE82BC3E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25F-D354-4302-A986-C0A973DA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D14-2C48-48FE-B65A-F11FF4BC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A3E-8D9B-475B-ACC0-DF6D929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D6EA-297C-42F1-94DF-80B8A8525B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0B3-0457-4536-9C5D-E15BF95E86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on #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ic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yllabus and Tutoring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what this course will en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amount of work I must put forth to succeed in this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Shrader’s ingenious Advanced Tutor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/28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638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Get parent signature on syllab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knowledgement for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441972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 though the syllabus thoroughly. Then write one or two detailed and specific questions that you would like to ask about this cour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ular Kinematics Equations…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as linear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v  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a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t         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240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600200" y="2286000"/>
                <a:ext cx="589752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θ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Δv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ad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α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ar to angu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09680"/>
            <a:ext cx="6019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imple ratio connects linear equations to angular equation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/ r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chang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= change in arc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= radius of 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457200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5562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ing the equations found in today’s notes, derive the equations 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 and a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2133720"/>
            <a:ext cx="1981080" cy="18288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3048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848720" y="2300400"/>
            <a:ext cx="60948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72840" y="281448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17524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175248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4680" y="2362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6104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2960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each of Newton’s laws in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Net force (horse &amp; cart probl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plitting vectors into x &amp; y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olving for unknown ang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5720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on #2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ic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ton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/29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486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pare for tomorrow’s ex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343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the materials in the back of the room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 examples of Newton’s law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rst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(Law of Inertia) An object at rest will remain at rest and an object in motion will remain in motion in a straight line unless acted on by an outside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581280"/>
            <a:ext cx="822960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ond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 net force acting on an object will cause the object to accelerate in the same direction as the net force appli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celeration is directly proportional to the net force applied and inversely proportional to the mass of the object. 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ird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or every force applied there must be a counter acting force equal in magnitude and opposite in dir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2767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Horse pushes on the ground, the ground pushes back with an equal amount of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46483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…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then they cancel out and the net force is zero…. But then how can a horse pull a car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an a horse pull a c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206960" cy="3174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7280" y="3733920"/>
            <a:ext cx="22860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600200" y="3733920"/>
            <a:ext cx="2362320" cy="0"/>
          </a:xfrm>
          <a:prstGeom prst="line">
            <a:avLst/>
          </a:prstGeom>
          <a:ln w="63360">
            <a:solidFill>
              <a:srgbClr val="ffffff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2971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n ho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28954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horse on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480060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looking at net force, we only count the forces act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object not don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he difference between equations that are definitions and are deri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e equations from other equ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tly manipulate any algebraic eq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/3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76212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on #3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ic: Definition vs. Derivatio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5334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“Practice Deriving Equation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411480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 an equation that you know is an example of a definition and write an equation that you know is an example of a deriv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t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equations that are written directly from the definition of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a simple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= change in distance /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= change in velocity /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= net force /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rivat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useful equations created through the algebraic manipulation of two or more definition eq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more complex than definition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+ ½a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762120"/>
            <a:ext cx="723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on #4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ic: Describing Motion and Rotational Kinema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676520"/>
            <a:ext cx="792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relative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rotational motion using familiar kinema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 problems involving angular displacement,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, and accel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114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fast are we moving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334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gular equation deri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6-09-01T15:10:54Z</dcterms:modified>
  <cp:revision>17</cp:revision>
  <dc:subject/>
  <dc:title>Lesson #1 8/29/06 </dc:title>
</cp:coreProperties>
</file>